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BB2A-61AE-40E4-AFD5-15AEDF966D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7345-F7F9-49A7-86CE-D27A55E6B9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0ED-C5AE-4F1E-A896-B2763C03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5DF-BD69-43E6-AE21-D9946935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8D7-09F4-4E63-B8AF-A08705E8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C33-FBC6-4817-914B-68B31531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65F-4EC7-4D14-94DF-CCE5A114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DF56-0ECB-43A0-89DC-C73BBC38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011-497E-45AF-B44D-7285B698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C11-F2E6-4B83-8A9B-02976727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1C1-9981-4466-AB52-94D7E9D7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E52-7BA9-4832-9926-52A671F5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E8D8-4453-4366-A5DF-4BF7169F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948D-9FB8-4CDA-AC95-6C49D16C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4EEC-5A05-41EF-8E5F-0744858289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组合 20" descr=""/>
          <p:cNvPicPr/>
          <p:nvPr/>
        </p:nvPicPr>
        <p:blipFill>
          <a:blip r:embed="rId1"/>
          <a:stretch/>
        </p:blipFill>
        <p:spPr>
          <a:xfrm>
            <a:off x="1011240" y="2567160"/>
            <a:ext cx="712152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5"/>
          <p:cNvSpPr/>
          <p:nvPr/>
        </p:nvSpPr>
        <p:spPr>
          <a:xfrm>
            <a:off x="755640" y="220500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</a:rPr>
              <a:t>一、漂亮的翠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么美丽的小鸟哇！它有一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羽毛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，翅膀带有一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还漂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段共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句话，写了小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rcRect l="7464" t="14600" r="5925" b="23766"/>
          <a:stretch/>
        </p:blipFill>
        <p:spPr>
          <a:xfrm>
            <a:off x="3000240" y="1265400"/>
            <a:ext cx="3121200" cy="939600"/>
          </a:xfrm>
          <a:prstGeom prst="rect">
            <a:avLst/>
          </a:prstGeom>
          <a:ln w="0">
            <a:noFill/>
          </a:ln>
        </p:spPr>
      </p:pic>
      <p:sp>
        <p:nvSpPr>
          <p:cNvPr id="51" name="矩形 7"/>
          <p:cNvSpPr/>
          <p:nvPr/>
        </p:nvSpPr>
        <p:spPr>
          <a:xfrm>
            <a:off x="5694120" y="3409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红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0"/>
          <p:cNvSpPr/>
          <p:nvPr/>
        </p:nvSpPr>
        <p:spPr>
          <a:xfrm>
            <a:off x="7292520" y="3409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长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1"/>
          <p:cNvSpPr/>
          <p:nvPr/>
        </p:nvSpPr>
        <p:spPr>
          <a:xfrm>
            <a:off x="2726280" y="3959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翠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6860880" y="3959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蓝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3"/>
          <p:cNvSpPr/>
          <p:nvPr/>
        </p:nvSpPr>
        <p:spPr>
          <a:xfrm>
            <a:off x="2180160" y="450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鹦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2836440" y="5052960"/>
            <a:ext cx="7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5"/>
          <p:cNvSpPr/>
          <p:nvPr/>
        </p:nvSpPr>
        <p:spPr>
          <a:xfrm>
            <a:off x="6922800" y="506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6"/>
          <p:cNvSpPr/>
          <p:nvPr/>
        </p:nvSpPr>
        <p:spPr>
          <a:xfrm>
            <a:off x="1869840" y="5586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羽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7"/>
          <p:cNvSpPr/>
          <p:nvPr/>
        </p:nvSpPr>
        <p:spPr>
          <a:xfrm>
            <a:off x="3763800" y="5594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翅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5"/>
          <p:cNvSpPr/>
          <p:nvPr/>
        </p:nvSpPr>
        <p:spPr>
          <a:xfrm>
            <a:off x="826920" y="2565360"/>
            <a:ext cx="77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题中画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句子要读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语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赞叹　　　②不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"/>
          <p:cNvSpPr/>
          <p:nvPr/>
        </p:nvSpPr>
        <p:spPr>
          <a:xfrm>
            <a:off x="6255360" y="263700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5"/>
          <p:cNvSpPr/>
          <p:nvPr/>
        </p:nvSpPr>
        <p:spPr>
          <a:xfrm>
            <a:off x="635040" y="1209600"/>
            <a:ext cx="7753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</a:rPr>
              <a:t>二、捕鱼的翠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在横线上填上恰当的表示动作的词语，并仿写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正想着，它一下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水里不见了。可是，没一会儿，它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出来了，红色的长嘴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着一条小鱼。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船头，一口把小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下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能仿照上面的句子再写几句类似含有动词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"/>
          <p:cNvSpPr/>
          <p:nvPr/>
        </p:nvSpPr>
        <p:spPr>
          <a:xfrm>
            <a:off x="4276440" y="2409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"/>
          <p:cNvSpPr/>
          <p:nvPr/>
        </p:nvSpPr>
        <p:spPr>
          <a:xfrm>
            <a:off x="3547800" y="295596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飞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7542360" y="2943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3700440" y="351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0"/>
          <p:cNvSpPr/>
          <p:nvPr/>
        </p:nvSpPr>
        <p:spPr>
          <a:xfrm>
            <a:off x="7546680" y="351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1"/>
          <p:cNvSpPr/>
          <p:nvPr/>
        </p:nvSpPr>
        <p:spPr>
          <a:xfrm>
            <a:off x="1017720" y="5033880"/>
            <a:ext cx="715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b10f4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拿起一个馒头，张开嘴巴，咬上一口，慢慢地品尝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5"/>
          <p:cNvSpPr/>
          <p:nvPr/>
        </p:nvSpPr>
        <p:spPr>
          <a:xfrm>
            <a:off x="692280" y="2060640"/>
            <a:ext cx="787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</a:rPr>
              <a:t>三、搭船的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“搭”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乘，坐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搭理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支，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“搭船的鸟”一个“搭”字使鸟儿具有了灵性，体现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和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0"/>
          <p:cNvSpPr/>
          <p:nvPr/>
        </p:nvSpPr>
        <p:spPr>
          <a:xfrm>
            <a:off x="3635280" y="4365720"/>
            <a:ext cx="8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自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"/>
          <p:cNvSpPr/>
          <p:nvPr/>
        </p:nvSpPr>
        <p:spPr>
          <a:xfrm>
            <a:off x="2890800" y="27082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1"/>
          <p:cNvSpPr/>
          <p:nvPr/>
        </p:nvSpPr>
        <p:spPr>
          <a:xfrm>
            <a:off x="2279520" y="435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7168"/>
          <p:cNvSpPr/>
          <p:nvPr/>
        </p:nvSpPr>
        <p:spPr>
          <a:xfrm>
            <a:off x="611280" y="2205000"/>
            <a:ext cx="785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</a:rPr>
              <a:t>一、延伸阅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翠鸟叫声清脆，爱贴着水面疾飞，一眨眼，它已轻轻地落在苇秆上了。它一动不动，注视着泛着微波的水面，等待着小鱼游到水面上来。小鱼悄悄地把头露出水面，吹了个小泡泡。尽管小鱼很机灵，还是难以逃脱翠鸟锐利的眼睛。它冲进水里叼起小鱼飞回船头。水波还在荡漾，小鱼已经成了翠鸟的美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2770200" y="1054080"/>
            <a:ext cx="3603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7168"/>
          <p:cNvSpPr/>
          <p:nvPr/>
        </p:nvSpPr>
        <p:spPr>
          <a:xfrm>
            <a:off x="539640" y="2079720"/>
            <a:ext cx="824724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．短文共有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句话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．请你用“机灵”说一句话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_______________________________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．读了短文后，我知道翠鸟叫声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，爱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_____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，它眼睛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__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，行动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__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  <a:ea typeface="Times New Roman"/>
              </a:rPr>
              <a:t>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2590560" y="2173320"/>
            <a:ext cx="34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1023840" y="3241800"/>
            <a:ext cx="7547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1b10f4"/>
                </a:solidFill>
                <a:latin typeface="宋体"/>
              </a:rPr>
              <a:t>示例：</a:t>
            </a: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小松鼠很机灵，听到一点儿动静就爬到树上去了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5123880" y="3757680"/>
            <a:ext cx="531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清脆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6846840" y="3757680"/>
            <a:ext cx="1232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贴着水面疾飞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/>
          <p:cNvSpPr/>
          <p:nvPr/>
        </p:nvSpPr>
        <p:spPr>
          <a:xfrm>
            <a:off x="2055960" y="4282920"/>
            <a:ext cx="823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　锐利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4808880" y="428292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快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168"/>
          <p:cNvSpPr/>
          <p:nvPr/>
        </p:nvSpPr>
        <p:spPr>
          <a:xfrm>
            <a:off x="826920" y="1916280"/>
            <a:ext cx="749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  <a:ea typeface="Times New Roman"/>
              </a:rPr>
              <a:t>二、百字练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生活中，你有没有动物朋友？你和它有什么故事？写一写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1406520" y="36241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7-12-09T15:30:31Z</dcterms:modified>
  <cp:revision>80</cp:revision>
  <dc:subject/>
  <dc:title>PowerPoint 演示文稿</dc:title>
</cp:coreProperties>
</file>